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48.jpeg" ContentType="image/jpeg"/>
  <Override PartName="/ppt/media/image35.png" ContentType="image/png"/>
  <Override PartName="/ppt/media/image45.jpeg" ContentType="image/jpeg"/>
  <Override PartName="/ppt/media/image33.png" ContentType="image/pn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1.png" ContentType="image/png"/>
  <Override PartName="/ppt/media/image49.jpeg" ContentType="image/jpeg"/>
  <Override PartName="/ppt/media/image9.jpeg" ContentType="image/jpeg"/>
  <Override PartName="/ppt/media/image11.jpeg" ContentType="image/jpeg"/>
  <Override PartName="/ppt/media/image44.png" ContentType="image/png"/>
  <Override PartName="/ppt/media/image13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52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C26-3437-49BB-A716-089F1EE1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81C-25A7-40A7-9603-CD87945F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CE8-B11B-4BA7-B332-A5C665D5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A7F-FF80-4D80-A92A-4AD757F7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3E76-7BF9-42FB-BD62-C01BBDF1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2CE7-32E9-43DC-AADF-7735C91E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AA72-7806-452C-9610-96EB301E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CFB-F9AD-4DDC-8FB9-A98AA8A2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0E6-DD48-4F41-B14A-D02431F4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575D-5FAE-46DC-A718-5D8A2815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E4A3-3993-4C0F-BF31-F2F817C2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56EA-F511-4BB6-8ED3-A8FD050F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1F69-31D2-474E-A8AD-1A6961189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00px-Earth_Western_Hemisphere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 and land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1371240"/>
            <a:ext cx="5791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Joshua R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Deep Sea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610480" y="5943240"/>
            <a:ext cx="76320" cy="182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flipH="1">
            <a:off x="1393200" y="660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5010120"/>
            <a:ext cx="2467080" cy="1847880"/>
            <a:chOff x="0" y="5010120"/>
            <a:chExt cx="2467080" cy="1847880"/>
          </a:xfrm>
        </p:grpSpPr>
        <p:pic>
          <p:nvPicPr>
            <p:cNvPr id="198" name="Picture 3" descr=""/>
            <p:cNvPicPr/>
            <p:nvPr/>
          </p:nvPicPr>
          <p:blipFill>
            <a:blip r:embed="rId3"/>
            <a:stretch/>
          </p:blipFill>
          <p:spPr>
            <a:xfrm>
              <a:off x="0" y="501012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281600" y="628488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b849d"/>
                  </a:solidFill>
                  <a:latin typeface="Arial"/>
                </a:rPr>
                <a:t>cr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800600" y="4876920"/>
            <a:ext cx="2619360" cy="1752480"/>
            <a:chOff x="4800600" y="4876920"/>
            <a:chExt cx="2619360" cy="175248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4800600" y="4876920"/>
              <a:ext cx="261936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234840" y="605628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b849d"/>
                  </a:solidFill>
                  <a:latin typeface="Arial"/>
                </a:rPr>
                <a:t>cl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0" y="1295280"/>
            <a:ext cx="2467080" cy="1852560"/>
            <a:chOff x="0" y="1295280"/>
            <a:chExt cx="2467080" cy="1852560"/>
          </a:xfrm>
        </p:grpSpPr>
        <p:pic>
          <p:nvPicPr>
            <p:cNvPr id="204" name="" descr=""/>
            <p:cNvPicPr/>
            <p:nvPr/>
          </p:nvPicPr>
          <p:blipFill>
            <a:blip r:embed="rId5"/>
            <a:stretch/>
          </p:blipFill>
          <p:spPr>
            <a:xfrm>
              <a:off x="0" y="129528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672480" y="277956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b849d"/>
                  </a:solidFill>
                  <a:latin typeface="Arial"/>
                </a:rPr>
                <a:t>tubew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416040" y="1789200"/>
            <a:ext cx="400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b8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849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1b849d"/>
                </a:solidFill>
                <a:latin typeface="Arial"/>
              </a:rPr>
              <a:t>Down there is so dark you can’t s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b8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849d"/>
                </a:solidFill>
                <a:latin typeface="Arial"/>
              </a:rPr>
              <a:t>The water is very c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b8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849d"/>
                </a:solidFill>
                <a:latin typeface="Arial"/>
              </a:rPr>
              <a:t>Very few animals live down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620040" y="1219320"/>
            <a:ext cx="2523960" cy="1809720"/>
            <a:chOff x="6620040" y="1219320"/>
            <a:chExt cx="2523960" cy="1809720"/>
          </a:xfrm>
        </p:grpSpPr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6620040" y="1219320"/>
              <a:ext cx="252396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7394040" y="2514600"/>
              <a:ext cx="10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b849d"/>
                  </a:solidFill>
                  <a:latin typeface="Arial"/>
                </a:rPr>
                <a:t>viper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114720" y="2855880"/>
            <a:ext cx="57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849d"/>
                </a:solidFill>
                <a:latin typeface="Arial"/>
              </a:rPr>
              <a:t>Deep sea biomes were found in the Galapagos Isl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849d"/>
                </a:solidFill>
                <a:latin typeface="Arial"/>
              </a:rPr>
              <a:t>Deep sea biomes are also found all over the oce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ivers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610480" y="6019560"/>
            <a:ext cx="7632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5276880"/>
            <a:ext cx="2209680" cy="1581120"/>
            <a:chOff x="0" y="5276880"/>
            <a:chExt cx="2209680" cy="1581120"/>
          </a:xfrm>
        </p:grpSpPr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0" y="5276880"/>
              <a:ext cx="22096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72120" y="636120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River o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225520" y="5381640"/>
            <a:ext cx="1971720" cy="1476360"/>
            <a:chOff x="2225520" y="5381640"/>
            <a:chExt cx="1971720" cy="1476360"/>
          </a:xfrm>
        </p:grpSpPr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2225520" y="5381640"/>
              <a:ext cx="19717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2669040" y="63612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ray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191120" y="5048280"/>
            <a:ext cx="2523960" cy="1809720"/>
            <a:chOff x="4191120" y="5048280"/>
            <a:chExt cx="2523960" cy="1809720"/>
          </a:xfrm>
        </p:grpSpPr>
        <p:pic>
          <p:nvPicPr>
            <p:cNvPr id="221" name="" descr=""/>
            <p:cNvPicPr/>
            <p:nvPr/>
          </p:nvPicPr>
          <p:blipFill>
            <a:blip r:embed="rId4"/>
            <a:stretch/>
          </p:blipFill>
          <p:spPr>
            <a:xfrm>
              <a:off x="4191120" y="5048280"/>
              <a:ext cx="252396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939200" y="628488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du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620040" y="5048280"/>
            <a:ext cx="2523960" cy="1809720"/>
            <a:chOff x="6620040" y="5048280"/>
            <a:chExt cx="2523960" cy="1809720"/>
          </a:xfrm>
        </p:grpSpPr>
        <p:pic>
          <p:nvPicPr>
            <p:cNvPr id="224" name="" descr=""/>
            <p:cNvPicPr/>
            <p:nvPr/>
          </p:nvPicPr>
          <p:blipFill>
            <a:blip r:embed="rId5"/>
            <a:stretch/>
          </p:blipFill>
          <p:spPr>
            <a:xfrm>
              <a:off x="6620040" y="5048280"/>
              <a:ext cx="252396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377480" y="62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tur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46400" y="1407960"/>
            <a:ext cx="524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 lot of rivers go through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ots of rivers interact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ots of plants and animals grow and live in ri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22000" y="266688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e river is located in Pierre, South Dakota. Rivers are mostly found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hrough 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picgrassland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ssland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5257800"/>
            <a:ext cx="29718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sslands are covered with tall gra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298160" y="28954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lo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447920"/>
            <a:ext cx="2467080" cy="1861560"/>
            <a:chOff x="0" y="1447920"/>
            <a:chExt cx="2467080" cy="1861560"/>
          </a:xfrm>
        </p:grpSpPr>
        <p:pic>
          <p:nvPicPr>
            <p:cNvPr id="49" name="Picture 7" descr="ANd9GcSdxtmskQTBvG3KrDg-IB7qPypxNPLTzOD-D2bI5uArEgkABddC"/>
            <p:cNvPicPr/>
            <p:nvPr/>
          </p:nvPicPr>
          <p:blipFill>
            <a:blip r:embed="rId2"/>
            <a:stretch/>
          </p:blipFill>
          <p:spPr>
            <a:xfrm>
              <a:off x="0" y="1447920"/>
              <a:ext cx="246708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2"/>
            <p:cNvSpPr/>
            <p:nvPr/>
          </p:nvSpPr>
          <p:spPr>
            <a:xfrm>
              <a:off x="1374480" y="26668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telo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514600" y="1523880"/>
            <a:ext cx="3133800" cy="1457280"/>
            <a:chOff x="2514600" y="1523880"/>
            <a:chExt cx="3133800" cy="1457280"/>
          </a:xfrm>
        </p:grpSpPr>
        <p:pic>
          <p:nvPicPr>
            <p:cNvPr id="52" name="Picture 10" descr="ANd9GcRW7eVP4otaNGRCpWJQhNK2XsMGN1Tvz7FRtq7rQz_gzSv71_yQNA"/>
            <p:cNvPicPr/>
            <p:nvPr/>
          </p:nvPicPr>
          <p:blipFill>
            <a:blip r:embed="rId3"/>
            <a:stretch/>
          </p:blipFill>
          <p:spPr>
            <a:xfrm>
              <a:off x="2514600" y="1523880"/>
              <a:ext cx="31338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4"/>
            <p:cNvSpPr/>
            <p:nvPr/>
          </p:nvSpPr>
          <p:spPr>
            <a:xfrm>
              <a:off x="5031360" y="251460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6"/>
          <p:cNvSpPr/>
          <p:nvPr/>
        </p:nvSpPr>
        <p:spPr>
          <a:xfrm>
            <a:off x="3875400" y="3389400"/>
            <a:ext cx="52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sslands cover 1/3 of the U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grass use to be two meters t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grasslands get little rain causing dead gras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/>
          <p:cNvSpPr/>
          <p:nvPr/>
        </p:nvSpPr>
        <p:spPr>
          <a:xfrm>
            <a:off x="3524400" y="2381400"/>
            <a:ext cx="209520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516564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048120" y="4572000"/>
            <a:ext cx="2667960" cy="2286000"/>
            <a:chOff x="3048120" y="4572000"/>
            <a:chExt cx="2667960" cy="2286000"/>
          </a:xfrm>
        </p:grpSpPr>
        <p:pic>
          <p:nvPicPr>
            <p:cNvPr id="58" name="Picture 20" descr="coyote"/>
            <p:cNvPicPr/>
            <p:nvPr/>
          </p:nvPicPr>
          <p:blipFill>
            <a:blip r:embed="rId4"/>
            <a:stretch/>
          </p:blipFill>
          <p:spPr>
            <a:xfrm>
              <a:off x="3048120" y="457200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2"/>
            <p:cNvSpPr/>
            <p:nvPr/>
          </p:nvSpPr>
          <p:spPr>
            <a:xfrm>
              <a:off x="4863240" y="63612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y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172200" y="4648320"/>
            <a:ext cx="2467080" cy="1847880"/>
            <a:chOff x="6172200" y="4648320"/>
            <a:chExt cx="2467080" cy="1847880"/>
          </a:xfrm>
        </p:grpSpPr>
        <p:pic>
          <p:nvPicPr>
            <p:cNvPr id="61" name="Picture 24" descr="ANd9GcTIb2wLhWhcKZJBGWie4jEFdi452A9jSow40P_374cmipSEjXQW1g"/>
            <p:cNvPicPr/>
            <p:nvPr/>
          </p:nvPicPr>
          <p:blipFill>
            <a:blip r:embed="rId5"/>
            <a:stretch/>
          </p:blipFill>
          <p:spPr>
            <a:xfrm>
              <a:off x="6172200" y="464832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25"/>
            <p:cNvSpPr/>
            <p:nvPr/>
          </p:nvSpPr>
          <p:spPr>
            <a:xfrm>
              <a:off x="7911360" y="597996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26"/>
          <p:cNvSpPr/>
          <p:nvPr/>
        </p:nvSpPr>
        <p:spPr>
          <a:xfrm>
            <a:off x="6617160" y="1407960"/>
            <a:ext cx="271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sslands can be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South Dakota. Th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also be foun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th Dako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tund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ndra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610480" y="6019560"/>
            <a:ext cx="7632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8600" y="1219320"/>
            <a:ext cx="2717640" cy="1743120"/>
            <a:chOff x="228600" y="1219320"/>
            <a:chExt cx="2717640" cy="1743120"/>
          </a:xfrm>
        </p:grpSpPr>
        <p:pic>
          <p:nvPicPr>
            <p:cNvPr id="68" name="Picture 7" descr="ANd9GcTTxlnheKHOq1qGD2GZeZE7yEpYgMS3a2fRvQ3CEMYWH2QRM7Bs"/>
            <p:cNvPicPr/>
            <p:nvPr/>
          </p:nvPicPr>
          <p:blipFill>
            <a:blip r:embed="rId2"/>
            <a:stretch/>
          </p:blipFill>
          <p:spPr>
            <a:xfrm>
              <a:off x="228600" y="1219320"/>
              <a:ext cx="2619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8"/>
            <p:cNvSpPr/>
            <p:nvPr/>
          </p:nvSpPr>
          <p:spPr>
            <a:xfrm>
              <a:off x="1968480" y="247500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rib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248520" y="1371600"/>
            <a:ext cx="2543040" cy="1790640"/>
            <a:chOff x="6248520" y="1371600"/>
            <a:chExt cx="2543040" cy="1790640"/>
          </a:xfrm>
        </p:grpSpPr>
        <p:pic>
          <p:nvPicPr>
            <p:cNvPr id="71" name="Picture 10" descr="ANd9GcS2jAW4ihkHPWp0HLJFGs8LYulcUyQUjmpk7gbGhWCYucWdoMhl"/>
            <p:cNvPicPr/>
            <p:nvPr/>
          </p:nvPicPr>
          <p:blipFill>
            <a:blip r:embed="rId3"/>
            <a:stretch/>
          </p:blipFill>
          <p:spPr>
            <a:xfrm>
              <a:off x="6248520" y="1371600"/>
              <a:ext cx="254304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1"/>
            <p:cNvSpPr/>
            <p:nvPr/>
          </p:nvSpPr>
          <p:spPr>
            <a:xfrm>
              <a:off x="7392960" y="266688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hite f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15"/>
          <p:cNvSpPr/>
          <p:nvPr/>
        </p:nvSpPr>
        <p:spPr>
          <a:xfrm>
            <a:off x="3581280" y="1981080"/>
            <a:ext cx="289584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838080" y="3048120"/>
            <a:ext cx="1730880" cy="1981080"/>
            <a:chOff x="838080" y="3048120"/>
            <a:chExt cx="1730880" cy="1981080"/>
          </a:xfrm>
        </p:grpSpPr>
        <p:pic>
          <p:nvPicPr>
            <p:cNvPr id="75" name="Picture 13" descr="th?id=I"/>
            <p:cNvPicPr/>
            <p:nvPr/>
          </p:nvPicPr>
          <p:blipFill>
            <a:blip r:embed="rId4"/>
            <a:stretch/>
          </p:blipFill>
          <p:spPr>
            <a:xfrm>
              <a:off x="838080" y="3048120"/>
              <a:ext cx="160992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679400" y="4572000"/>
              <a:ext cx="88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a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7"/>
          <p:cNvSpPr/>
          <p:nvPr/>
        </p:nvSpPr>
        <p:spPr>
          <a:xfrm>
            <a:off x="3644640" y="2170080"/>
            <a:ext cx="301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undra is supper c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undra has no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y few people live ther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6080040" y="3846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5486400" y="3733920"/>
            <a:ext cx="259092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lace you can find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dra at is Alas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place is a lo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s in Can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971800" y="3276720"/>
            <a:ext cx="2048040" cy="2228760"/>
            <a:chOff x="2971800" y="3276720"/>
            <a:chExt cx="2048040" cy="2228760"/>
          </a:xfrm>
        </p:grpSpPr>
        <p:pic>
          <p:nvPicPr>
            <p:cNvPr id="81" name="Picture 22" descr="ANd9GcSY3uYEpAlLprALLSnSWsoQ6k5DtKKvoZjTlay-P2omq79akLxMaA"/>
            <p:cNvPicPr/>
            <p:nvPr/>
          </p:nvPicPr>
          <p:blipFill>
            <a:blip r:embed="rId5"/>
            <a:stretch/>
          </p:blipFill>
          <p:spPr>
            <a:xfrm>
              <a:off x="2971800" y="3276720"/>
              <a:ext cx="204804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23"/>
            <p:cNvSpPr/>
            <p:nvPr/>
          </p:nvSpPr>
          <p:spPr>
            <a:xfrm>
              <a:off x="4330080" y="5065560"/>
              <a:ext cx="52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w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7"/>
          <p:cNvSpPr/>
          <p:nvPr/>
        </p:nvSpPr>
        <p:spPr>
          <a:xfrm>
            <a:off x="762120" y="1447920"/>
            <a:ext cx="39621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ANd9GcS1R-OHffWFif_qaic6RhcaboVDnEN8F8GDOJDVSFbL7iVqj2-W5w"/>
          <p:cNvPicPr/>
          <p:nvPr/>
        </p:nvPicPr>
        <p:blipFill>
          <a:blip r:embed="rId1"/>
          <a:stretch/>
        </p:blipFill>
        <p:spPr>
          <a:xfrm>
            <a:off x="0" y="-246240"/>
            <a:ext cx="9144000" cy="7104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etland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34160" y="5790960"/>
            <a:ext cx="7596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4794120"/>
            <a:ext cx="2743200" cy="2063880"/>
            <a:chOff x="0" y="4794120"/>
            <a:chExt cx="2743200" cy="2063880"/>
          </a:xfrm>
        </p:grpSpPr>
        <p:pic>
          <p:nvPicPr>
            <p:cNvPr id="88" name="Picture 7" descr="ANd9GcRAWZJybDO4YdcLmULv4td9Ry6R7WycQPdxpljZIXlE7T5exOXc"/>
            <p:cNvPicPr/>
            <p:nvPr/>
          </p:nvPicPr>
          <p:blipFill>
            <a:blip r:embed="rId2"/>
            <a:stretch/>
          </p:blipFill>
          <p:spPr>
            <a:xfrm>
              <a:off x="0" y="4794120"/>
              <a:ext cx="2743200" cy="20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8"/>
            <p:cNvSpPr/>
            <p:nvPr/>
          </p:nvSpPr>
          <p:spPr>
            <a:xfrm>
              <a:off x="1510920" y="63612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llig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48480" y="5029200"/>
            <a:ext cx="2495520" cy="1830240"/>
            <a:chOff x="6648480" y="5029200"/>
            <a:chExt cx="2495520" cy="1830240"/>
          </a:xfrm>
        </p:grpSpPr>
        <p:pic>
          <p:nvPicPr>
            <p:cNvPr id="91" name="Picture 10" descr="ANd9GcRwsjVdPkXmDLHkaI2DjiIy1DxLHb8MYvUTS97FFHIKd9rD4wkMKA"/>
            <p:cNvPicPr/>
            <p:nvPr/>
          </p:nvPicPr>
          <p:blipFill>
            <a:blip r:embed="rId3"/>
            <a:stretch/>
          </p:blipFill>
          <p:spPr>
            <a:xfrm>
              <a:off x="6648480" y="5029200"/>
              <a:ext cx="24955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1"/>
            <p:cNvSpPr/>
            <p:nvPr/>
          </p:nvSpPr>
          <p:spPr>
            <a:xfrm>
              <a:off x="8230680" y="649116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O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429000" y="5114880"/>
            <a:ext cx="2619360" cy="1743120"/>
            <a:chOff x="3429000" y="5114880"/>
            <a:chExt cx="2619360" cy="1743120"/>
          </a:xfrm>
        </p:grpSpPr>
        <p:pic>
          <p:nvPicPr>
            <p:cNvPr id="94" name="Picture 13" descr="ANd9GcQTDZWqCy1ZBkhsW_nnuIDpVjnXrL3Xkbtp34rjwa6KVp-q8vzi"/>
            <p:cNvPicPr/>
            <p:nvPr/>
          </p:nvPicPr>
          <p:blipFill>
            <a:blip r:embed="rId4"/>
            <a:stretch/>
          </p:blipFill>
          <p:spPr>
            <a:xfrm>
              <a:off x="3429000" y="5114880"/>
              <a:ext cx="2619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4"/>
            <p:cNvSpPr/>
            <p:nvPr/>
          </p:nvSpPr>
          <p:spPr>
            <a:xfrm>
              <a:off x="4558320" y="6437160"/>
              <a:ext cx="14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Water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16"/>
          <p:cNvSpPr/>
          <p:nvPr/>
        </p:nvSpPr>
        <p:spPr>
          <a:xfrm>
            <a:off x="143208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838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6693120" y="2017800"/>
            <a:ext cx="25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You can find a lo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Wetlands in Flor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You can also fin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the east coa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86200" y="2971800"/>
            <a:ext cx="2467080" cy="1847880"/>
            <a:chOff x="3886200" y="2971800"/>
            <a:chExt cx="2467080" cy="1847880"/>
          </a:xfrm>
        </p:grpSpPr>
        <p:pic>
          <p:nvPicPr>
            <p:cNvPr id="100" name="Picture 23" descr="ANd9GcTzt7jU25IOqyg0nrYnKp-ogJq4qoT4wKiFlGnpD0FhVrEnM_5Pdw"/>
            <p:cNvPicPr/>
            <p:nvPr/>
          </p:nvPicPr>
          <p:blipFill>
            <a:blip r:embed="rId5"/>
            <a:stretch/>
          </p:blipFill>
          <p:spPr>
            <a:xfrm>
              <a:off x="3886200" y="297180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24"/>
            <p:cNvSpPr/>
            <p:nvPr/>
          </p:nvSpPr>
          <p:spPr>
            <a:xfrm>
              <a:off x="5092200" y="437976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Wild pi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25"/>
          <p:cNvSpPr/>
          <p:nvPr/>
        </p:nvSpPr>
        <p:spPr>
          <a:xfrm>
            <a:off x="1300320" y="1066680"/>
            <a:ext cx="61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 lot of animals live in the wetl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ots of wetlands are swam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Wetlands are where a lot of predators live in the wetl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ANd9GcTJ19AdYUEXhC0ZyS3KQweYeHZ4o38pOyEDCRDtWjiWsJsC2e_ll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Tropical Rainforest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686800" y="6019560"/>
            <a:ext cx="7632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" y="1371600"/>
            <a:ext cx="2679480" cy="1776240"/>
            <a:chOff x="228600" y="1371600"/>
            <a:chExt cx="2679480" cy="1776240"/>
          </a:xfrm>
        </p:grpSpPr>
        <p:pic>
          <p:nvPicPr>
            <p:cNvPr id="107" name="Picture 7" descr="ANd9GcQBTU3aV-ecdkBFWFajtE6hK294949bq5c_rDGRNVl7MJPrOFJ8AQ"/>
            <p:cNvPicPr/>
            <p:nvPr/>
          </p:nvPicPr>
          <p:blipFill>
            <a:blip r:embed="rId2"/>
            <a:stretch/>
          </p:blipFill>
          <p:spPr>
            <a:xfrm>
              <a:off x="228600" y="1371600"/>
              <a:ext cx="2666880" cy="17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/>
            <p:cNvSpPr/>
            <p:nvPr/>
          </p:nvSpPr>
          <p:spPr>
            <a:xfrm>
              <a:off x="1892160" y="2779560"/>
              <a:ext cx="101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kinkaj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095880" y="1143000"/>
            <a:ext cx="2648160" cy="2146320"/>
            <a:chOff x="6095880" y="1143000"/>
            <a:chExt cx="2648160" cy="2146320"/>
          </a:xfrm>
        </p:grpSpPr>
        <p:pic>
          <p:nvPicPr>
            <p:cNvPr id="110" name="Picture 10" descr="ANd9GcRNo-TSF2upGznEotUBZqlhLQUyppStH9LN2tUJeSv8nIfoT6PDsw"/>
            <p:cNvPicPr/>
            <p:nvPr/>
          </p:nvPicPr>
          <p:blipFill>
            <a:blip r:embed="rId3"/>
            <a:stretch/>
          </p:blipFill>
          <p:spPr>
            <a:xfrm>
              <a:off x="6095880" y="1143000"/>
              <a:ext cx="264816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2"/>
            <p:cNvSpPr/>
            <p:nvPr/>
          </p:nvSpPr>
          <p:spPr>
            <a:xfrm>
              <a:off x="7606800" y="285588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Jagu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971800" y="1219320"/>
            <a:ext cx="2619360" cy="1743120"/>
            <a:chOff x="2971800" y="1219320"/>
            <a:chExt cx="2619360" cy="1743120"/>
          </a:xfrm>
        </p:grpSpPr>
        <p:pic>
          <p:nvPicPr>
            <p:cNvPr id="113" name="Picture 14" descr="ANd9GcSwygwY_O6nDOCVrD0TqGy6JFT4FzzGR1WJTVxL_2MH9TwQzc2P"/>
            <p:cNvPicPr/>
            <p:nvPr/>
          </p:nvPicPr>
          <p:blipFill>
            <a:blip r:embed="rId4"/>
            <a:stretch/>
          </p:blipFill>
          <p:spPr>
            <a:xfrm>
              <a:off x="2971800" y="1219320"/>
              <a:ext cx="2619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5"/>
            <p:cNvSpPr/>
            <p:nvPr/>
          </p:nvSpPr>
          <p:spPr>
            <a:xfrm>
              <a:off x="3873960" y="2475000"/>
              <a:ext cx="156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Basilisk li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04920" y="3048120"/>
            <a:ext cx="2466720" cy="1847880"/>
            <a:chOff x="304920" y="3048120"/>
            <a:chExt cx="2466720" cy="1847880"/>
          </a:xfrm>
        </p:grpSpPr>
        <p:pic>
          <p:nvPicPr>
            <p:cNvPr id="116" name="Picture 17" descr="ANd9GcQVEOpiS9vMvCAzEOfc1gEBDN6OpQ8ha4cUlZwemOA2yMC7HvpKwQ"/>
            <p:cNvPicPr/>
            <p:nvPr/>
          </p:nvPicPr>
          <p:blipFill>
            <a:blip r:embed="rId5"/>
            <a:stretch/>
          </p:blipFill>
          <p:spPr>
            <a:xfrm>
              <a:off x="304920" y="3048120"/>
              <a:ext cx="246672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8"/>
            <p:cNvSpPr/>
            <p:nvPr/>
          </p:nvSpPr>
          <p:spPr>
            <a:xfrm>
              <a:off x="1586880" y="44560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ant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19"/>
          <p:cNvSpPr/>
          <p:nvPr/>
        </p:nvSpPr>
        <p:spPr>
          <a:xfrm>
            <a:off x="3799440" y="3313080"/>
            <a:ext cx="47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ropical Rainforest are found all over Eur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Rainforest are also found in Braz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2898000" y="4572000"/>
            <a:ext cx="474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Rainforest get a lot of 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rainforest floor does not get a lot of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rainforest has millions of animals in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ANd9GcR7PL4BxwUeOWnI7c_FWoAyQkl-tDNA5gjGufJb88LMWhBr0vAOi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eciduous Forest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4"/>
          <p:cNvSpPr/>
          <p:nvPr/>
        </p:nvSpPr>
        <p:spPr>
          <a:xfrm>
            <a:off x="838080" y="1066680"/>
            <a:ext cx="41148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31240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iduous forest are mostly found in places with little rain and cool climates, like Canada. They are also found in Alas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738600" y="2805120"/>
            <a:ext cx="166680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3738600" y="2805120"/>
            <a:ext cx="166680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5010120"/>
            <a:ext cx="2467080" cy="1847880"/>
            <a:chOff x="0" y="5010120"/>
            <a:chExt cx="2467080" cy="1847880"/>
          </a:xfrm>
        </p:grpSpPr>
        <p:pic>
          <p:nvPicPr>
            <p:cNvPr id="127" name="Picture 12" descr="ANd9GcS59sj1LHM1JBGUdGTmfVouDcFKZDA13gGAeibLn4bCappv1EM0vA"/>
            <p:cNvPicPr/>
            <p:nvPr/>
          </p:nvPicPr>
          <p:blipFill>
            <a:blip r:embed="rId2"/>
            <a:stretch/>
          </p:blipFill>
          <p:spPr>
            <a:xfrm>
              <a:off x="0" y="501012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3"/>
            <p:cNvSpPr/>
            <p:nvPr/>
          </p:nvSpPr>
          <p:spPr>
            <a:xfrm>
              <a:off x="993600" y="6248520"/>
              <a:ext cx="134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Brown b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4"/>
          <p:cNvSpPr/>
          <p:nvPr/>
        </p:nvSpPr>
        <p:spPr>
          <a:xfrm>
            <a:off x="6311520" y="1941480"/>
            <a:ext cx="297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ciduous forest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sually cold. They are 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et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y have lot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nimals.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657600" y="3733920"/>
            <a:ext cx="2514600" cy="1819080"/>
            <a:chOff x="3657600" y="3733920"/>
            <a:chExt cx="2514600" cy="1819080"/>
          </a:xfrm>
        </p:grpSpPr>
        <p:pic>
          <p:nvPicPr>
            <p:cNvPr id="131" name="Picture 16" descr="ANd9GcRXsnTSzlB3MN9ViGzAYsln1yTyqb0juw9oUyKaccLuzTk08w5t"/>
            <p:cNvPicPr/>
            <p:nvPr/>
          </p:nvPicPr>
          <p:blipFill>
            <a:blip r:embed="rId3"/>
            <a:stretch/>
          </p:blipFill>
          <p:spPr>
            <a:xfrm>
              <a:off x="3657600" y="3733920"/>
              <a:ext cx="2514600" cy="18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7"/>
            <p:cNvSpPr/>
            <p:nvPr/>
          </p:nvSpPr>
          <p:spPr>
            <a:xfrm>
              <a:off x="4863600" y="506556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Male du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0880" y="2971800"/>
            <a:ext cx="2247480" cy="1776240"/>
            <a:chOff x="380880" y="2971800"/>
            <a:chExt cx="2247480" cy="1776240"/>
          </a:xfrm>
        </p:grpSpPr>
        <p:pic>
          <p:nvPicPr>
            <p:cNvPr id="134" name="Picture 21" descr="ANd9GcS4P7PlaZCk1gVuejq88eGUVuHprY-q261z9mGdPaApA1QEhvx38Q"/>
            <p:cNvPicPr/>
            <p:nvPr/>
          </p:nvPicPr>
          <p:blipFill>
            <a:blip r:embed="rId4"/>
            <a:stretch/>
          </p:blipFill>
          <p:spPr>
            <a:xfrm>
              <a:off x="380880" y="2971800"/>
              <a:ext cx="205740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22"/>
            <p:cNvSpPr/>
            <p:nvPr/>
          </p:nvSpPr>
          <p:spPr>
            <a:xfrm>
              <a:off x="1435680" y="4379760"/>
              <a:ext cx="119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hedgeh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9400" y="3962520"/>
            <a:ext cx="2514600" cy="2057400"/>
            <a:chOff x="6629400" y="3962520"/>
            <a:chExt cx="2514600" cy="2057400"/>
          </a:xfrm>
        </p:grpSpPr>
        <p:pic>
          <p:nvPicPr>
            <p:cNvPr id="137" name="Picture 19" descr="ANd9GcT8_P1bJQnCreuNg8cr3G0EMEEQYhn0YTHzHKox6-9PAA8JPVIY"/>
            <p:cNvPicPr/>
            <p:nvPr/>
          </p:nvPicPr>
          <p:blipFill>
            <a:blip r:embed="rId5"/>
            <a:stretch/>
          </p:blipFill>
          <p:spPr>
            <a:xfrm>
              <a:off x="6629400" y="3962520"/>
              <a:ext cx="25146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683120" y="544680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acco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ANd9GcQ7Wo7YlIxICkH9d5IF_Vo80WO-NXPq-ZoEVjry70nedXnSV3X-V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iga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066680" y="1676520"/>
            <a:ext cx="31244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124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kind of biome is found all over Canada. You can also find them in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5280120"/>
            <a:ext cx="2403720" cy="1579320"/>
            <a:chOff x="0" y="5280120"/>
            <a:chExt cx="2403720" cy="1579320"/>
          </a:xfrm>
        </p:grpSpPr>
        <p:pic>
          <p:nvPicPr>
            <p:cNvPr id="144" name="Picture 8" descr="ANd9GcT_-SOxYRWRfEEd5gR1Qe5gbq-iR5smsf00yFylJGX7h4hGkJ3WEMDR0ieo"/>
            <p:cNvPicPr/>
            <p:nvPr/>
          </p:nvPicPr>
          <p:blipFill>
            <a:blip r:embed="rId2"/>
            <a:stretch/>
          </p:blipFill>
          <p:spPr>
            <a:xfrm>
              <a:off x="0" y="5280120"/>
              <a:ext cx="2362320" cy="15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9"/>
            <p:cNvSpPr/>
            <p:nvPr/>
          </p:nvSpPr>
          <p:spPr>
            <a:xfrm>
              <a:off x="1145520" y="649116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lveri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12"/>
          <p:cNvSpPr/>
          <p:nvPr/>
        </p:nvSpPr>
        <p:spPr>
          <a:xfrm>
            <a:off x="5867280" y="1752480"/>
            <a:ext cx="32767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6080760" y="1789200"/>
            <a:ext cx="310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gas are found to be 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gas are pretty d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trees are pine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515280" y="3124080"/>
            <a:ext cx="2628720" cy="1743120"/>
            <a:chOff x="6515280" y="3124080"/>
            <a:chExt cx="2628720" cy="1743120"/>
          </a:xfrm>
        </p:grpSpPr>
        <p:pic>
          <p:nvPicPr>
            <p:cNvPr id="149" name="Picture 14" descr="ANd9GcRkxt31ugWRQImp6ePm5P3kkYT443SzaCOrvLQ0DINOlU07JHJS"/>
            <p:cNvPicPr/>
            <p:nvPr/>
          </p:nvPicPr>
          <p:blipFill>
            <a:blip r:embed="rId3"/>
            <a:stretch/>
          </p:blipFill>
          <p:spPr>
            <a:xfrm>
              <a:off x="6515280" y="3124080"/>
              <a:ext cx="262872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5"/>
            <p:cNvSpPr/>
            <p:nvPr/>
          </p:nvSpPr>
          <p:spPr>
            <a:xfrm>
              <a:off x="8139960" y="43797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581280" y="4572000"/>
            <a:ext cx="2467080" cy="1847880"/>
            <a:chOff x="3581280" y="4572000"/>
            <a:chExt cx="2467080" cy="1847880"/>
          </a:xfrm>
        </p:grpSpPr>
        <p:pic>
          <p:nvPicPr>
            <p:cNvPr id="152" name="Picture 17" descr="ANd9GcR8efJJr3jvIpO3DuE1yNspYKhpYSz0Yna2aTCUPOR_NywowjtH"/>
            <p:cNvPicPr/>
            <p:nvPr/>
          </p:nvPicPr>
          <p:blipFill>
            <a:blip r:embed="rId4"/>
            <a:stretch/>
          </p:blipFill>
          <p:spPr>
            <a:xfrm>
              <a:off x="3581280" y="457200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8"/>
            <p:cNvSpPr/>
            <p:nvPr/>
          </p:nvSpPr>
          <p:spPr>
            <a:xfrm>
              <a:off x="5015520" y="597996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62120" y="2743200"/>
            <a:ext cx="2457360" cy="1866960"/>
            <a:chOff x="762120" y="2743200"/>
            <a:chExt cx="2457360" cy="1866960"/>
          </a:xfrm>
        </p:grpSpPr>
        <p:pic>
          <p:nvPicPr>
            <p:cNvPr id="155" name="Picture 20" descr="ANd9GcQskIfmg-Ez3NEhtSsWDVmm_p3QksUEhQ_iyluBhJhm2VX_lxWL"/>
            <p:cNvPicPr/>
            <p:nvPr/>
          </p:nvPicPr>
          <p:blipFill>
            <a:blip r:embed="rId5"/>
            <a:stretch/>
          </p:blipFill>
          <p:spPr>
            <a:xfrm>
              <a:off x="762120" y="2743200"/>
              <a:ext cx="245736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21"/>
            <p:cNvSpPr/>
            <p:nvPr/>
          </p:nvSpPr>
          <p:spPr>
            <a:xfrm>
              <a:off x="1511640" y="4151160"/>
              <a:ext cx="118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cup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3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ert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610480" y="6080040"/>
            <a:ext cx="763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5048280"/>
            <a:ext cx="2523960" cy="1809720"/>
            <a:chOff x="0" y="5048280"/>
            <a:chExt cx="2523960" cy="1809720"/>
          </a:xfrm>
        </p:grpSpPr>
        <p:pic>
          <p:nvPicPr>
            <p:cNvPr id="16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5048280"/>
              <a:ext cx="252396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Box 3"/>
            <p:cNvSpPr/>
            <p:nvPr/>
          </p:nvSpPr>
          <p:spPr>
            <a:xfrm>
              <a:off x="1370880" y="648828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am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0" y="0"/>
            <a:ext cx="2579760" cy="1743120"/>
            <a:chOff x="0" y="0"/>
            <a:chExt cx="2579760" cy="1743120"/>
          </a:xfrm>
        </p:grpSpPr>
        <p:pic>
          <p:nvPicPr>
            <p:cNvPr id="164" name="Picture 4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797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Box 4"/>
            <p:cNvSpPr/>
            <p:nvPr/>
          </p:nvSpPr>
          <p:spPr>
            <a:xfrm>
              <a:off x="998640" y="136692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Jack rab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5"/>
          <p:cNvSpPr/>
          <p:nvPr/>
        </p:nvSpPr>
        <p:spPr>
          <a:xfrm>
            <a:off x="689040" y="2549520"/>
            <a:ext cx="371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are very d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stly everyday it is 115 deg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hold very few anima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5959800" y="1743120"/>
            <a:ext cx="294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are found in Egy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are also foun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ustr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943600" y="4191120"/>
            <a:ext cx="2382840" cy="1743120"/>
            <a:chOff x="5943600" y="4191120"/>
            <a:chExt cx="2382840" cy="1743120"/>
          </a:xfrm>
        </p:grpSpPr>
        <p:pic>
          <p:nvPicPr>
            <p:cNvPr id="169" name="Picture 5" descr=""/>
            <p:cNvPicPr/>
            <p:nvPr/>
          </p:nvPicPr>
          <p:blipFill>
            <a:blip r:embed="rId4"/>
            <a:stretch/>
          </p:blipFill>
          <p:spPr>
            <a:xfrm>
              <a:off x="5943600" y="4191120"/>
              <a:ext cx="23828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Box 7"/>
            <p:cNvSpPr/>
            <p:nvPr/>
          </p:nvSpPr>
          <p:spPr>
            <a:xfrm>
              <a:off x="6957720" y="545616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scorp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722680" y="3228120"/>
            <a:ext cx="2964960" cy="2328840"/>
            <a:chOff x="2722680" y="3228120"/>
            <a:chExt cx="2964960" cy="2328840"/>
          </a:xfrm>
        </p:grpSpPr>
        <p:pic>
          <p:nvPicPr>
            <p:cNvPr id="172" name="Picture 6" descr=""/>
            <p:cNvPicPr/>
            <p:nvPr/>
          </p:nvPicPr>
          <p:blipFill>
            <a:blip r:embed="rId5"/>
            <a:stretch/>
          </p:blipFill>
          <p:spPr>
            <a:xfrm rot="20754000">
              <a:off x="2895480" y="3520800"/>
              <a:ext cx="2619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Box 8"/>
            <p:cNvSpPr/>
            <p:nvPr/>
          </p:nvSpPr>
          <p:spPr>
            <a:xfrm>
              <a:off x="4210560" y="480060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em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ounded Rectangle 5"/>
          <p:cNvSpPr/>
          <p:nvPr/>
        </p:nvSpPr>
        <p:spPr>
          <a:xfrm>
            <a:off x="457200" y="1523880"/>
            <a:ext cx="266688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485"/>
                </a:solidFill>
                <a:latin typeface="Arial"/>
              </a:rPr>
              <a:t>Coral Reef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610480" y="6080040"/>
            <a:ext cx="763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"/>
          <p:cNvSpPr/>
          <p:nvPr/>
        </p:nvSpPr>
        <p:spPr>
          <a:xfrm>
            <a:off x="838080" y="1461960"/>
            <a:ext cx="3737160" cy="1667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 flipV="1" rot="10800000">
            <a:off x="1143000" y="1675440"/>
            <a:ext cx="354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4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485"/>
                </a:solidFill>
                <a:latin typeface="Arial"/>
              </a:rPr>
              <a:t>Coral reefs are very frag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4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485"/>
                </a:solidFill>
                <a:latin typeface="Arial"/>
              </a:rPr>
              <a:t>Coral reefs are the most colorful bi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4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485"/>
                </a:solidFill>
                <a:latin typeface="Arial"/>
              </a:rPr>
              <a:t>Millions of species live t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33520" y="4267080"/>
            <a:ext cx="2458800" cy="1359000"/>
            <a:chOff x="533520" y="4267080"/>
            <a:chExt cx="2458800" cy="1359000"/>
          </a:xfrm>
        </p:grpSpPr>
        <p:pic>
          <p:nvPicPr>
            <p:cNvPr id="181" name="Picture 7" descr=""/>
            <p:cNvPicPr/>
            <p:nvPr/>
          </p:nvPicPr>
          <p:blipFill>
            <a:blip r:embed="rId2"/>
            <a:stretch/>
          </p:blipFill>
          <p:spPr>
            <a:xfrm>
              <a:off x="533520" y="4267080"/>
              <a:ext cx="245880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Box 2"/>
            <p:cNvSpPr/>
            <p:nvPr/>
          </p:nvSpPr>
          <p:spPr>
            <a:xfrm>
              <a:off x="1468440" y="5257800"/>
              <a:ext cx="145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485"/>
                  </a:solidFill>
                  <a:latin typeface="Arial"/>
                </a:rPr>
                <a:t>Trumpet 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477120" y="2209680"/>
            <a:ext cx="1780920" cy="1333440"/>
            <a:chOff x="6477120" y="2209680"/>
            <a:chExt cx="1780920" cy="1333440"/>
          </a:xfrm>
        </p:grpSpPr>
        <p:pic>
          <p:nvPicPr>
            <p:cNvPr id="184" name="Picture 8" descr=""/>
            <p:cNvPicPr/>
            <p:nvPr/>
          </p:nvPicPr>
          <p:blipFill>
            <a:blip r:embed="rId3"/>
            <a:stretch/>
          </p:blipFill>
          <p:spPr>
            <a:xfrm>
              <a:off x="6477120" y="2209680"/>
              <a:ext cx="178092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3"/>
            <p:cNvSpPr/>
            <p:nvPr/>
          </p:nvSpPr>
          <p:spPr>
            <a:xfrm>
              <a:off x="6993360" y="314784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485"/>
                  </a:solidFill>
                  <a:latin typeface="Arial"/>
                </a:rPr>
                <a:t>Jelly 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334120" y="4648320"/>
            <a:ext cx="1616040" cy="1088640"/>
            <a:chOff x="5334120" y="4648320"/>
            <a:chExt cx="1616040" cy="1088640"/>
          </a:xfrm>
        </p:grpSpPr>
        <p:pic>
          <p:nvPicPr>
            <p:cNvPr id="187" name="Picture 9" descr=""/>
            <p:cNvPicPr/>
            <p:nvPr/>
          </p:nvPicPr>
          <p:blipFill>
            <a:blip r:embed="rId4"/>
            <a:stretch/>
          </p:blipFill>
          <p:spPr>
            <a:xfrm>
              <a:off x="5334120" y="4648320"/>
              <a:ext cx="1614240" cy="10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4"/>
            <p:cNvSpPr/>
            <p:nvPr/>
          </p:nvSpPr>
          <p:spPr>
            <a:xfrm>
              <a:off x="5717880" y="5368680"/>
              <a:ext cx="123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485"/>
                  </a:solidFill>
                  <a:latin typeface="Arial"/>
                </a:rPr>
                <a:t>Clown 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6"/>
          <p:cNvSpPr/>
          <p:nvPr/>
        </p:nvSpPr>
        <p:spPr>
          <a:xfrm>
            <a:off x="7014240" y="609480"/>
            <a:ext cx="21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485"/>
                </a:solidFill>
                <a:latin typeface="Arial"/>
              </a:rPr>
              <a:t>Coral reef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485"/>
                </a:solidFill>
                <a:latin typeface="Arial"/>
              </a:rPr>
              <a:t>Found in Califor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485"/>
                </a:solidFill>
                <a:latin typeface="Arial"/>
              </a:rPr>
              <a:t>They are also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485"/>
                </a:solidFill>
                <a:latin typeface="Arial"/>
              </a:rPr>
              <a:t>In Hawai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419720" y="2819520"/>
            <a:ext cx="1704960" cy="1293840"/>
            <a:chOff x="4419720" y="2819520"/>
            <a:chExt cx="1704960" cy="1293840"/>
          </a:xfrm>
        </p:grpSpPr>
        <p:pic>
          <p:nvPicPr>
            <p:cNvPr id="191" name="Picture 10" descr=""/>
            <p:cNvPicPr/>
            <p:nvPr/>
          </p:nvPicPr>
          <p:blipFill>
            <a:blip r:embed="rId5"/>
            <a:stretch/>
          </p:blipFill>
          <p:spPr>
            <a:xfrm>
              <a:off x="4419720" y="2819520"/>
              <a:ext cx="170496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8"/>
            <p:cNvSpPr/>
            <p:nvPr/>
          </p:nvSpPr>
          <p:spPr>
            <a:xfrm>
              <a:off x="4956120" y="3743640"/>
              <a:ext cx="88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485"/>
                  </a:solidFill>
                  <a:latin typeface="Arial"/>
                </a:rPr>
                <a:t>lion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18:48Z</dcterms:created>
  <dc:creator>JR3480</dc:creator>
  <dc:description/>
  <dc:language>en-US</dc:language>
  <cp:lastModifiedBy>JR3480</cp:lastModifiedBy>
  <dcterms:modified xsi:type="dcterms:W3CDTF">2012-11-13T19:13:13Z</dcterms:modified>
  <cp:revision>12</cp:revision>
  <dc:subject/>
  <dc:title>Water and land Biomes</dc:title>
</cp:coreProperties>
</file>